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BF1E-67DF-4B27-A703-A27FC601D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A396-2CA3-4474-ABAC-0BE3F592F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DE4F-3A41-4178-9864-6857D5586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93F57-E0B7-4855-8F3A-4A4BA981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91E3A-FBE9-4E78-8447-FD879732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EB19E-DE79-4A38-BB7A-7CC232B5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21785-0CF2-4C28-AB15-7D756A65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5778-867D-4839-80D1-6FFFB656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ADB4-FE26-48F5-B7E0-366DE51F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D735-14C4-456F-AF6C-C4B2BC27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C510-0CD9-40A4-A729-F0828C35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B5D4-E01A-49D8-972B-C616EE84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6E41-C473-4E94-AD0B-6201370B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028E-2612-49B4-B0EE-C8FECB09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AE7A1-0224-4FCD-B509-431988BE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7BF1-76C5-43D4-B291-E383E683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3880-9ECD-404F-8555-7276EC25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A056-C1A1-4F15-9B60-869E64A8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5021-44E0-4B4D-A8A9-B5ED2A11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DDE2-4360-4862-82E9-C243DF2B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8F29B-2614-44BF-A2B1-559F7C7A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3823F-2983-48EF-BC60-8F9FD4D6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9F40A-0050-4D9C-B6D7-D1A13AFA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E6BCC-26A2-4233-9A1D-F1350A96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F9C38-71D2-46AE-9777-7C881739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BE321-6678-46C5-A931-F984D503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74BFE-579C-4CAF-B773-00EBE11E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CF07-6D39-41D1-90AB-185C2456FA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C631-99A6-44CA-AF07-F87460023C8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7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Text Box 21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A287-0B02-456D-AF0E-DC783779363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2EDD-4F3C-467B-92AD-D39ECF1EA5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6FE2-1AFC-44DB-9F97-E97C623961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Verdana"/>
              </a:rPr>
              <a:t>Checklist d’orie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r d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roduction à la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vue technique d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gnes de conduite clefs du pers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ystème de gestion de la qualité a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criptif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ate de débu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SITION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SPONSABL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AC92-0154-43C4-9F6D-FFB1A0D42B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762120" y="1066680"/>
            <a:ext cx="800100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99"/>
                </a:solidFill>
                <a:latin typeface="Verdana"/>
              </a:rPr>
              <a:t>L’évaluation des performances peut plus mettre en lumière les opportunités d’amélioration pour le laboratoire que pour l’employ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MCj04260720000[1]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C69B-EF2D-421A-BA58-7559B25F51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alifications et descriptif de po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33520" y="1219320"/>
            <a:ext cx="830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« La direction du laboratoire devrait avoir des descriptifs de  poste qui définissent les qualifications et les fonctions de tout le personnel. »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SO15189: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2120" y="2819520"/>
            <a:ext cx="40384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éducation requ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ertificats re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iplômes re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é requises avant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é requises avant expé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mpétences requ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spécifie la hiérarch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spécifie les responsabilit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ô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fo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ponsabi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structures d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762120" y="2438280"/>
            <a:ext cx="40384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Descriptif de 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7D05-B0D9-4DF2-AC85-5989AF5482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Verdana"/>
              </a:rPr>
              <a:t>Évaluation des compétences Check-list 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ha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981080"/>
          <a:ext cx="8229600" cy="4543560"/>
        </p:xfrm>
        <a:graphic>
          <a:graphicData uri="http://schemas.openxmlformats.org/drawingml/2006/table">
            <a:tbl>
              <a:tblPr/>
              <a:tblGrid>
                <a:gridCol w="2743200"/>
                <a:gridCol w="1066680"/>
                <a:gridCol w="304920"/>
                <a:gridCol w="533520"/>
                <a:gridCol w="609480"/>
                <a:gridCol w="297180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 technici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édure d’é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d’é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ément de procéd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u le manuel de procéd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ture du 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quipement dispon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 de travail pro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paration réact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 la tâche correct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 la tâche opportuné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43F8-9C00-4377-94AA-5D652D18CD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Verdana"/>
              </a:rPr>
              <a:t>Évaluation des compétences Check-list</a:t>
            </a:r>
            <a:r>
              <a:rPr b="0" lang="fr-FR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(b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752480"/>
          <a:ext cx="8229600" cy="445464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182520"/>
                <a:gridCol w="731880"/>
                <a:gridCol w="182520"/>
                <a:gridCol w="655560"/>
                <a:gridCol w="28195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sumé d’éval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80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formation requise pour combler les défaillanc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2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és recommandé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_____ jo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2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ture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ien évalu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58E2-F5D5-4CDC-A24F-468191D75D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Évaluation des compé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228600" y="1676520"/>
            <a:ext cx="8610480" cy="464796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04920" y="1143000"/>
          <a:ext cx="8610480" cy="510840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447560"/>
                <a:gridCol w="1295640"/>
                <a:gridCol w="1218960"/>
                <a:gridCol w="2590920"/>
              </a:tblGrid>
              <a:tr h="835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e d’évaluation des compét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ôpital principal – Laboratoire de Microbiolo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â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ation 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des disques trop proches. Ré évaluation dans 14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émocult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ifug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plissage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ée donn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rreurs.  Lire le manuel et ré évaluer dans 10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FBA4-9308-40B7-8D51-59952C0374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80880" y="1523880"/>
            <a:ext cx="3962520" cy="54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au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pécifique à une tâ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à l’évaluation des compé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xemples: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visions des manuels opérato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vision des mises à jour du manu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rmation sur l’équipemen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57200" y="685800"/>
            <a:ext cx="403848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Verdana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4572000" y="1752480"/>
            <a:ext cx="4267080" cy="48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au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ut ne pa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être spécifique à une tâ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ut ne pa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être liée à l’évaluation des  compé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xe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é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lubs de rev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vues et litté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Form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7" descr="MCBD06810_0000[1]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MCBS00263_0000[1]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44" name="WordArt 20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68E9-8331-49E3-BE93-648F8A7B81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3E88-B7B7-424F-A818-71EEDB27B7F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99"/>
                </a:solidFill>
                <a:latin typeface="Verdana"/>
              </a:rPr>
              <a:t>Ressources de 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rsonnel in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mité d’assuranc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édec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firmier(èr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athologi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des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pidémiologi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x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valuate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abrica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ociétés scientifiq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ganisations de normalis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0010000[1]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A7A6-0F74-4F46-A723-7C1820700D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uses d’une performance médioc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33520" y="1752480"/>
            <a:ext cx="3733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Personnelle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blème de san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uvaise compréh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nque de/mauvaise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90B7-CDEA-49E6-B3A1-4EDA290C44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ques/géné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tractions sur lieu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rcharge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ientation médio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rmation insuffis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’évaluation des compé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lexités des échantil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S absentes ou pas va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S ambiguë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auses d’une performance médioc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4:47:58Z</dcterms:modified>
  <cp:revision>202</cp:revision>
  <dc:subject/>
  <dc:title>Slide 1</dc:title>
</cp:coreProperties>
</file>